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DFE-8A9C-441E-BFE1-A0E91D8D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96A-282C-4CF6-BF2A-868488BE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AD8-FB44-456C-AB8A-D52AC2A3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F62-BFF7-4E18-974A-9CA96461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555-4CA7-4302-B4A5-2DF79331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A20-9A95-4873-A344-2D10AD42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1C9-8FCB-4749-8AA9-C7D9422A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4DA-69C0-4057-9581-630B1E6D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1BD-BB63-4B2D-81FC-018EE9D2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79D-1F2F-46C1-8583-F6BEBE1A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9A0-704A-45B7-A0F1-104C1E98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DD9-5872-4AE8-8BC3-7033690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99600" indent="-399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867960" indent="-3330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335960" indent="-2660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1870560" indent="-2660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405880" indent="-2660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405880" indent="-2660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405880" indent="-2660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D3B9-BEBF-45A7-8986-CC7D02628FB1}" type="slidenum">
              <a:rPr b="0" lang="ja-JP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3"/>
          <p:cNvSpPr/>
          <p:nvPr/>
        </p:nvSpPr>
        <p:spPr>
          <a:xfrm>
            <a:off x="233280" y="1136520"/>
            <a:ext cx="6408720" cy="696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ffffff"/>
                </a:solidFill>
                <a:latin typeface="メイリオ"/>
                <a:ea typeface="メイリオ"/>
              </a:rPr>
              <a:t>お金、仕事、住宅など、生活に関する相談窓口のご案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260280" y="3459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新型コロナウイルス感染症の影響を受け、生活にお悩みの皆さま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8"/>
          <p:cNvSpPr/>
          <p:nvPr/>
        </p:nvSpPr>
        <p:spPr>
          <a:xfrm>
            <a:off x="5877000" y="255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（参考３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9"/>
          <p:cNvSpPr/>
          <p:nvPr/>
        </p:nvSpPr>
        <p:spPr>
          <a:xfrm>
            <a:off x="233280" y="2043000"/>
            <a:ext cx="6408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新型コロナウイルス感染症の拡大により、収入が減ってしまい、家計が苦しいなど、生活のことでお悩みはありません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○○市町村では、相談窓口を設け、日々の生活のこと、仕事のことなど、専門の相談員がお話を聞かせていただきながら、解決に向けた提案や、解決までのお手伝いをします。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ひとりで抱え込まずに、どのようなことでも結構ですので、まずはお話をお聞かせ下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角丸四角形 22"/>
          <p:cNvSpPr/>
          <p:nvPr/>
        </p:nvSpPr>
        <p:spPr>
          <a:xfrm>
            <a:off x="225360" y="7942320"/>
            <a:ext cx="6407280" cy="1859040"/>
          </a:xfrm>
          <a:prstGeom prst="roundRect">
            <a:avLst>
              <a:gd name="adj" fmla="val 8745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23"/>
          <p:cNvSpPr/>
          <p:nvPr/>
        </p:nvSpPr>
        <p:spPr>
          <a:xfrm>
            <a:off x="260280" y="80406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問合せ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25"/>
          <p:cNvSpPr/>
          <p:nvPr/>
        </p:nvSpPr>
        <p:spPr>
          <a:xfrm>
            <a:off x="469800" y="8439120"/>
            <a:ext cx="44719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●●●●●●●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（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※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自立相談支援機関の窓口名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電話：●●●●●●●●●●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受付時間：（月～金曜日　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9:00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17:00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10"/>
          <p:cNvSpPr/>
          <p:nvPr/>
        </p:nvSpPr>
        <p:spPr>
          <a:xfrm>
            <a:off x="4941720" y="8299440"/>
            <a:ext cx="1489320" cy="140652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住所、地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角丸四角形 5"/>
          <p:cNvSpPr/>
          <p:nvPr/>
        </p:nvSpPr>
        <p:spPr>
          <a:xfrm>
            <a:off x="5199120" y="351000"/>
            <a:ext cx="1476360" cy="57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相談無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7" descr=""/>
          <p:cNvPicPr/>
          <p:nvPr/>
        </p:nvPicPr>
        <p:blipFill>
          <a:blip r:embed="rId1"/>
          <a:stretch/>
        </p:blipFill>
        <p:spPr>
          <a:xfrm>
            <a:off x="2174760" y="5792760"/>
            <a:ext cx="2216160" cy="19810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14"/>
          <p:cNvSpPr/>
          <p:nvPr/>
        </p:nvSpPr>
        <p:spPr>
          <a:xfrm>
            <a:off x="3338640" y="4402080"/>
            <a:ext cx="2243160" cy="865080"/>
          </a:xfrm>
          <a:prstGeom prst="cloudCallout">
            <a:avLst>
              <a:gd name="adj1" fmla="val -36833"/>
              <a:gd name="adj2" fmla="val 106828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失業して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家賃が払え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雲形吹き出し 15"/>
          <p:cNvSpPr/>
          <p:nvPr/>
        </p:nvSpPr>
        <p:spPr>
          <a:xfrm>
            <a:off x="158760" y="5326200"/>
            <a:ext cx="1774800" cy="863640"/>
          </a:xfrm>
          <a:prstGeom prst="cloudCallout">
            <a:avLst>
              <a:gd name="adj1" fmla="val 67523"/>
              <a:gd name="adj2" fmla="val 48199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公共料金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滞納が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雲形吹き出し 16"/>
          <p:cNvSpPr/>
          <p:nvPr/>
        </p:nvSpPr>
        <p:spPr>
          <a:xfrm>
            <a:off x="4459320" y="5351400"/>
            <a:ext cx="2219400" cy="865080"/>
          </a:xfrm>
          <a:prstGeom prst="cloudCallout">
            <a:avLst>
              <a:gd name="adj1" fmla="val -64046"/>
              <a:gd name="adj2" fmla="val 38189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求職活動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うまくいか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雲形吹き出し 17"/>
          <p:cNvSpPr/>
          <p:nvPr/>
        </p:nvSpPr>
        <p:spPr>
          <a:xfrm>
            <a:off x="4611600" y="6284880"/>
            <a:ext cx="1913040" cy="865080"/>
          </a:xfrm>
          <a:prstGeom prst="cloudCallout">
            <a:avLst>
              <a:gd name="adj1" fmla="val -64046"/>
              <a:gd name="adj2" fmla="val 38189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債務の返済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困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雲形吹き出し 6"/>
          <p:cNvSpPr/>
          <p:nvPr/>
        </p:nvSpPr>
        <p:spPr>
          <a:xfrm>
            <a:off x="1015920" y="4322880"/>
            <a:ext cx="1951200" cy="863640"/>
          </a:xfrm>
          <a:prstGeom prst="cloudCallout">
            <a:avLst>
              <a:gd name="adj1" fmla="val 46254"/>
              <a:gd name="adj2" fmla="val 105398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収入が減って家計が苦し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雲形吹き出し 18"/>
          <p:cNvSpPr/>
          <p:nvPr/>
        </p:nvSpPr>
        <p:spPr>
          <a:xfrm>
            <a:off x="158760" y="6429240"/>
            <a:ext cx="1774800" cy="865440"/>
          </a:xfrm>
          <a:prstGeom prst="cloudCallout">
            <a:avLst>
              <a:gd name="adj1" fmla="val 78662"/>
              <a:gd name="adj2" fmla="val 2102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相談相手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い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ホームベース 5"/>
          <p:cNvGrpSpPr/>
          <p:nvPr/>
        </p:nvGrpSpPr>
        <p:grpSpPr>
          <a:xfrm>
            <a:off x="407880" y="554040"/>
            <a:ext cx="6194520" cy="519120"/>
            <a:chOff x="407880" y="554040"/>
            <a:chExt cx="6194520" cy="519120"/>
          </a:xfrm>
        </p:grpSpPr>
        <p:pic>
          <p:nvPicPr>
            <p:cNvPr id="58" name="ホームベース 5" descr=""/>
            <p:cNvPicPr/>
            <p:nvPr/>
          </p:nvPicPr>
          <p:blipFill>
            <a:blip r:embed="rId1"/>
            <a:stretch/>
          </p:blipFill>
          <p:spPr>
            <a:xfrm>
              <a:off x="407880" y="554040"/>
              <a:ext cx="6194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17600" y="560520"/>
              <a:ext cx="592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角丸四角形 11"/>
          <p:cNvSpPr/>
          <p:nvPr/>
        </p:nvSpPr>
        <p:spPr>
          <a:xfrm>
            <a:off x="501480" y="2505240"/>
            <a:ext cx="5861160" cy="11188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角丸四角形 1"/>
          <p:cNvSpPr/>
          <p:nvPr/>
        </p:nvSpPr>
        <p:spPr>
          <a:xfrm>
            <a:off x="484200" y="1784520"/>
            <a:ext cx="5848200" cy="482400"/>
          </a:xfrm>
          <a:prstGeom prst="roundRect">
            <a:avLst>
              <a:gd name="adj" fmla="val 26060"/>
            </a:avLst>
          </a:prstGeom>
          <a:solidFill>
            <a:srgbClr val="4472c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1319040" y="55440"/>
            <a:ext cx="414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住居確保給付金のご案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"/>
          <p:cNvSpPr/>
          <p:nvPr/>
        </p:nvSpPr>
        <p:spPr>
          <a:xfrm>
            <a:off x="525600" y="569880"/>
            <a:ext cx="557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 u="sng">
                <a:solidFill>
                  <a:srgbClr val="c00000"/>
                </a:solidFill>
                <a:uFillTx/>
                <a:latin typeface="ＤＨＰ特太ゴシック体"/>
                <a:ea typeface="ＤＨＰ特太ゴシック体"/>
              </a:rPr>
              <a:t>令和２年４月２０日から対象者が拡がりま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6"/>
          <p:cNvSpPr/>
          <p:nvPr/>
        </p:nvSpPr>
        <p:spPr>
          <a:xfrm>
            <a:off x="525600" y="1819440"/>
            <a:ext cx="576576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これまでの対象者　離職・廃業から</a:t>
            </a:r>
            <a:r>
              <a:rPr b="0" lang="en-US" sz="20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年以内の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7"/>
          <p:cNvSpPr/>
          <p:nvPr/>
        </p:nvSpPr>
        <p:spPr>
          <a:xfrm>
            <a:off x="576360" y="2576520"/>
            <a:ext cx="560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令和２年</a:t>
            </a:r>
            <a:r>
              <a:rPr b="0" lang="en-US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4</a:t>
            </a: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20</a:t>
            </a: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日以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　離職・廃業から</a:t>
            </a:r>
            <a:r>
              <a:rPr b="0" lang="en-US" sz="20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2</a:t>
            </a:r>
            <a:r>
              <a:rPr b="0" lang="ja-JP" sz="20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年以内または</a:t>
            </a: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休業等によ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収入が減少し、離職等と同程度の状況にある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8"/>
          <p:cNvSpPr/>
          <p:nvPr/>
        </p:nvSpPr>
        <p:spPr>
          <a:xfrm>
            <a:off x="162000" y="5524560"/>
            <a:ext cx="38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主な給付要件チェックリス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9"/>
          <p:cNvSpPr/>
          <p:nvPr/>
        </p:nvSpPr>
        <p:spPr>
          <a:xfrm>
            <a:off x="309600" y="1076400"/>
            <a:ext cx="63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70c0"/>
                </a:solidFill>
                <a:latin typeface="ＤＨＰ平成ゴシックW5"/>
                <a:ea typeface="ＤＨＰ平成ゴシックW5"/>
              </a:rPr>
              <a:t>住居確保給付金は、就職にむけた活動をするなどを条件に、一定期間、家賃相当額を自治体から家主さんに支給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680" y="5986440"/>
          <a:ext cx="6351480" cy="3157560"/>
        </p:xfrm>
        <a:graphic>
          <a:graphicData uri="http://schemas.openxmlformats.org/drawingml/2006/table">
            <a:tbl>
              <a:tblPr/>
              <a:tblGrid>
                <a:gridCol w="5311800"/>
                <a:gridCol w="1039680"/>
              </a:tblGrid>
              <a:tr h="285840"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　項　　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チェック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離職・廃業をした日から２年以内、</a:t>
                      </a: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ＤＨＰ平成ゴシックW5"/>
                          <a:ea typeface="ＤＨＰ平成ゴシックW5"/>
                        </a:rPr>
                        <a:t>またはやむを得ない休業等により、収入を得る機会が減少して</a:t>
                      </a: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いますか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資産が一定額以内、かつ、収入基準額（</a:t>
                      </a: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※</a:t>
                      </a: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）を超える収入を得ていませんか？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※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○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市の場合　</a:t>
                      </a: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　　　　　　　　　　　　　　（単位：万円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上記の状態になる前に、世帯生計を主として維持していましたか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ハローワークに求職の申し込みをしますか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テキスト ボックス 12"/>
          <p:cNvSpPr/>
          <p:nvPr/>
        </p:nvSpPr>
        <p:spPr>
          <a:xfrm>
            <a:off x="220680" y="9009000"/>
            <a:ext cx="635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○</a:t>
            </a: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すべての項目にチェック✔が付いた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　住居確保給付金の受給資格を満たす可能性が高いため、表面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（自立相談支援機関名）</a:t>
            </a: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に相談してくださ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2"/>
          <p:cNvSpPr/>
          <p:nvPr/>
        </p:nvSpPr>
        <p:spPr>
          <a:xfrm rot="5400000">
            <a:off x="3180960" y="2239920"/>
            <a:ext cx="430200" cy="493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図 17" descr=""/>
          <p:cNvPicPr/>
          <p:nvPr/>
        </p:nvPicPr>
        <p:blipFill>
          <a:blip r:embed="rId2"/>
          <a:stretch/>
        </p:blipFill>
        <p:spPr>
          <a:xfrm>
            <a:off x="307800" y="3513240"/>
            <a:ext cx="1797120" cy="1633320"/>
          </a:xfrm>
          <a:prstGeom prst="rect">
            <a:avLst/>
          </a:prstGeom>
          <a:ln w="0">
            <a:noFill/>
          </a:ln>
        </p:spPr>
      </p:pic>
      <p:sp>
        <p:nvSpPr>
          <p:cNvPr id="72" name="雲形吹き出し 18"/>
          <p:cNvSpPr/>
          <p:nvPr/>
        </p:nvSpPr>
        <p:spPr>
          <a:xfrm>
            <a:off x="1604880" y="3724200"/>
            <a:ext cx="2038320" cy="908280"/>
          </a:xfrm>
          <a:prstGeom prst="cloudCallout">
            <a:avLst>
              <a:gd name="adj1" fmla="val -41893"/>
              <a:gd name="adj2" fmla="val 78745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4"/>
          <p:cNvSpPr/>
          <p:nvPr/>
        </p:nvSpPr>
        <p:spPr>
          <a:xfrm>
            <a:off x="1778040" y="3897360"/>
            <a:ext cx="20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仕事がない・減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家賃が払えない･･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図 23" descr=""/>
          <p:cNvPicPr/>
          <p:nvPr/>
        </p:nvPicPr>
        <p:blipFill>
          <a:blip r:embed="rId3"/>
          <a:stretch/>
        </p:blipFill>
        <p:spPr>
          <a:xfrm>
            <a:off x="3479760" y="3811680"/>
            <a:ext cx="3146400" cy="1270080"/>
          </a:xfrm>
          <a:prstGeom prst="rect">
            <a:avLst/>
          </a:prstGeom>
          <a:ln w="0">
            <a:noFill/>
          </a:ln>
        </p:spPr>
      </p:pic>
      <p:sp>
        <p:nvSpPr>
          <p:cNvPr id="75" name="山形 24"/>
          <p:cNvSpPr/>
          <p:nvPr/>
        </p:nvSpPr>
        <p:spPr>
          <a:xfrm>
            <a:off x="2511360" y="4732200"/>
            <a:ext cx="590760" cy="56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1206" y="0"/>
                </a:lnTo>
                <a:lnTo>
                  <a:pt x="21600" y="10800"/>
                </a:lnTo>
                <a:lnTo>
                  <a:pt x="11206" y="21600"/>
                </a:lnTo>
                <a:lnTo>
                  <a:pt x="0" y="21600"/>
                </a:lnTo>
                <a:lnTo>
                  <a:pt x="10394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27"/>
          <p:cNvSpPr/>
          <p:nvPr/>
        </p:nvSpPr>
        <p:spPr>
          <a:xfrm>
            <a:off x="3625920" y="4983120"/>
            <a:ext cx="30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住居確保給付金の支給により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安定した生活を送ることがで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33440" y="7478640"/>
          <a:ext cx="5041800" cy="822240"/>
        </p:xfrm>
        <a:graphic>
          <a:graphicData uri="http://schemas.openxmlformats.org/drawingml/2006/table">
            <a:tbl>
              <a:tblPr/>
              <a:tblGrid>
                <a:gridCol w="1716120"/>
                <a:gridCol w="1108080"/>
                <a:gridCol w="1108080"/>
                <a:gridCol w="1109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単身世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２人世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３人世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収入基準額（月額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支給家賃額（上限額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図 13" descr=""/>
          <p:cNvPicPr/>
          <p:nvPr/>
        </p:nvPicPr>
        <p:blipFill>
          <a:blip r:embed="rId4"/>
          <a:stretch/>
        </p:blipFill>
        <p:spPr>
          <a:xfrm>
            <a:off x="635040" y="4111560"/>
            <a:ext cx="1014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2T05:06:58Z</dcterms:created>
  <dc:creator>櫻井 琢磨(sakurai-takuma)</dc:creator>
  <dc:description/>
  <dc:language>en-US</dc:language>
  <cp:lastModifiedBy>中村 まどか(nakamura-madoka.lf7)</cp:lastModifiedBy>
  <cp:lastPrinted>2020-04-07T09:01:47Z</cp:lastPrinted>
  <dcterms:modified xsi:type="dcterms:W3CDTF">2020-04-07T11:17:38Z</dcterms:modified>
  <cp:revision>65</cp:revision>
  <dc:subject/>
  <dc:title>PowerPoint プレゼンテーション</dc:title>
</cp:coreProperties>
</file>